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4DC-D2F6-4E84-8558-0C1D6ADD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5B9-5E22-4A14-B5A8-E6FC3BA3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380-E8BE-4308-9F96-CB3100EE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643-4E4F-428A-BB45-2D656D46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4B08-C459-4BCA-A356-C2CEEC55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4D75-481D-41D0-A4B6-0CBD5564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DFDC-CA7E-48CB-8EBA-7F9D470B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45B7-BA8C-4738-B1F5-EB4CD0D2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7304-D754-4F80-85D6-189487DC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FA97-DD62-4869-8A89-E88BBA96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DC43-BB73-480A-8944-33C8B5E3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D6B-7BED-4235-A386-90C1185E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6464-3F4F-47EF-A424-B9E9371A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8508-23EA-49F7-926A-9798B594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4C1F-55B3-4941-8BCF-3A70FE01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9229-02D3-489E-BD9F-C724FBE3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4782-EB81-406D-850C-27ADB15D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E9D-3689-40CA-96C7-D3F6D5D9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5CD-8B10-4083-A3FA-49FF9BB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B7C-A742-4556-9DCE-B086DEDE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CCD-4915-4B74-BCCD-15067739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C4E-A161-420C-A08B-61308E8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475-97DB-4229-82A9-8AB5A294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3D5-6D7C-4F18-81BB-34A4A674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2724-0896-4BAB-852E-DC0F43777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7802-EA9F-4CF7-B04F-439D686C4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5.2:  The Age of the Railroad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owth and consolidation of the RR influence expansion of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nscontinental RR = Interconnectedness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RR impact American socie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.  Robber Bar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men who practiced questionable business practices gaining huge personal 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grants were more profitable than  operating RR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235320" y="2084400"/>
            <a:ext cx="9144000" cy="360"/>
          </a:xfrm>
          <a:prstGeom prst="rect">
            <a:avLst/>
          </a:prstGeom>
          <a:solidFill>
            <a:srgbClr val="ff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170px-JohnPierpontMorgan"/>
          <p:cNvPicPr/>
          <p:nvPr/>
        </p:nvPicPr>
        <p:blipFill>
          <a:blip r:embed="rId2"/>
          <a:stretch/>
        </p:blipFill>
        <p:spPr>
          <a:xfrm>
            <a:off x="5562720" y="609480"/>
            <a:ext cx="1942920" cy="25495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2886120" y="1871640"/>
            <a:ext cx="9144000" cy="360"/>
          </a:xfrm>
          <a:prstGeom prst="rect">
            <a:avLst/>
          </a:prstGeom>
          <a:solidFill>
            <a:srgbClr val="ff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225px-Andrew_Carnegie%2C_three-quarter_length_portrait%2C_seated%2C_facing_slightly_left%2C_1913"/>
          <p:cNvPicPr/>
          <p:nvPr/>
        </p:nvPicPr>
        <p:blipFill>
          <a:blip r:embed="rId3"/>
          <a:stretch/>
        </p:blipFill>
        <p:spPr>
          <a:xfrm>
            <a:off x="4876920" y="3657600"/>
            <a:ext cx="2028600" cy="2362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2813040" y="1521000"/>
            <a:ext cx="9144000" cy="360"/>
          </a:xfrm>
          <a:prstGeom prst="rect">
            <a:avLst/>
          </a:prstGeom>
          <a:solidFill>
            <a:srgbClr val="ff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" descr="225px-John_D"/>
          <p:cNvPicPr/>
          <p:nvPr/>
        </p:nvPicPr>
        <p:blipFill>
          <a:blip r:embed="rId4"/>
          <a:stretch/>
        </p:blipFill>
        <p:spPr>
          <a:xfrm>
            <a:off x="7350120" y="3048120"/>
            <a:ext cx="1793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.  Credit Mobilier Construction Compan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tial stockholders of Union Pacific made contracts with themselves = Credit Mobi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d off congres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 from start to fi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prosec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.  Pacific Rail Road Act 186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Union Pacific and Central Pacific loans and land grants to continue extending tracks = Transcontinental 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mile laid 10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anscontinental railroad"/>
          <p:cNvPicPr/>
          <p:nvPr/>
        </p:nvPicPr>
        <p:blipFill>
          <a:blip r:embed="rId2"/>
          <a:stretch/>
        </p:blipFill>
        <p:spPr>
          <a:xfrm>
            <a:off x="2514600" y="3200400"/>
            <a:ext cx="461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3" descr="Image:Transcontinental railroad route2.png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.  RR: Spanning Time and Spa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ties of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Timeline11s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.  Workers of the R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454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n and Mex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wor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a day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900080" y="1620720"/>
            <a:ext cx="5343480" cy="3498840"/>
            <a:chOff x="1900080" y="1620720"/>
            <a:chExt cx="5343480" cy="3498840"/>
          </a:xfrm>
        </p:grpSpPr>
        <p:sp>
          <p:nvSpPr>
            <p:cNvPr id="143" name="Rectangle 6"/>
            <p:cNvSpPr/>
            <p:nvPr/>
          </p:nvSpPr>
          <p:spPr>
            <a:xfrm>
              <a:off x="1900080" y="1620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1900080" y="1620720"/>
              <a:ext cx="5343480" cy="34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" rIns="27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8" descr="X46214_6"/>
          <p:cNvPicPr/>
          <p:nvPr/>
        </p:nvPicPr>
        <p:blipFill>
          <a:blip r:embed="rId1"/>
          <a:stretch/>
        </p:blipFill>
        <p:spPr>
          <a:xfrm>
            <a:off x="5410080" y="2057400"/>
            <a:ext cx="3733920" cy="295416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9"/>
          <p:cNvGrpSpPr/>
          <p:nvPr/>
        </p:nvGrpSpPr>
        <p:grpSpPr>
          <a:xfrm>
            <a:off x="2057400" y="2057400"/>
            <a:ext cx="4552920" cy="2629080"/>
            <a:chOff x="2057400" y="2057400"/>
            <a:chExt cx="4552920" cy="2629080"/>
          </a:xfrm>
        </p:grpSpPr>
        <p:sp>
          <p:nvSpPr>
            <p:cNvPr id="147" name="Rectangle 10"/>
            <p:cNvSpPr/>
            <p:nvPr/>
          </p:nvSpPr>
          <p:spPr>
            <a:xfrm>
              <a:off x="2057400" y="2057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2057400" y="2057400"/>
              <a:ext cx="4552920" cy="26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" rIns="27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Picture 12" descr="2RAILROA_12"/>
          <p:cNvPicPr/>
          <p:nvPr/>
        </p:nvPicPr>
        <p:blipFill>
          <a:blip r:embed="rId2"/>
          <a:stretch/>
        </p:blipFill>
        <p:spPr>
          <a:xfrm>
            <a:off x="762120" y="332100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.  Workers of the R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Pacific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igrants from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better than their nonwhite counter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Union Pacific workers eat at their camp in Utah's Uinta Mountains."/>
          <p:cNvPicPr/>
          <p:nvPr/>
        </p:nvPicPr>
        <p:blipFill>
          <a:blip r:embed="rId1"/>
          <a:stretch/>
        </p:blipFill>
        <p:spPr>
          <a:xfrm>
            <a:off x="533520" y="2558880"/>
            <a:ext cx="4572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.  Standardized Time Zones 1918 created by the American Railway Associ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Picture 6" descr="Image:Timezoneswest.PNG"/>
          <p:cNvPicPr/>
          <p:nvPr/>
        </p:nvPicPr>
        <p:blipFill>
          <a:blip r:embed="rId1"/>
          <a:stretch/>
        </p:blipFill>
        <p:spPr>
          <a:xfrm>
            <a:off x="3220920" y="1600200"/>
            <a:ext cx="3883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.  Last Spike: 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montory Summit, Uta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transcontinental railroad"/>
          <p:cNvPicPr/>
          <p:nvPr/>
        </p:nvPicPr>
        <p:blipFill>
          <a:blip r:embed="rId1"/>
          <a:stretch/>
        </p:blipFill>
        <p:spPr>
          <a:xfrm>
            <a:off x="1981080" y="1981080"/>
            <a:ext cx="6272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.  RR Spur Growth:  Opportun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05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owns dev. Along RR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d products to passe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s specialized in specif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1426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y Stimulated: raw materials for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Consolidation of R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ius Vanderb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 and Chic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0-12T19:35:51Z</dcterms:modified>
  <cp:revision>16</cp:revision>
  <dc:subject/>
  <dc:title>PowerPoint Presentation</dc:title>
</cp:coreProperties>
</file>